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E3A-D126-4C33-8AFA-AE650BE0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61F-B376-49E3-B0D7-28BAF00C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6A39-CE64-49FE-8F6E-879846D4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A83-FC95-4A97-806D-9AF02F4C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38E-2936-4D5A-B499-2A88F953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1D7-9A21-4A08-8696-E3E1F3A9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585-9759-44A4-887F-F829F054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62C-DC04-4B31-8FBB-766110BA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819-A1B0-42F3-ADA5-A90738D7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ABA-C908-4750-B09C-101F8CD1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20F-DB6D-42D2-93EB-54303857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106-8612-4EEA-AC4E-80DA1FF7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9AA1-DD16-4C20-967D-81E721F47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48360" y="400536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411280" y="3860640"/>
            <a:ext cx="2087640" cy="155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1798560" cy="1501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804000" y="2276640"/>
            <a:ext cx="2089080" cy="1554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572000" y="2276640"/>
            <a:ext cx="2232000" cy="1484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484360" y="2205000"/>
            <a:ext cx="1944720" cy="1560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95280" y="206064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804000" y="549360"/>
            <a:ext cx="1943280" cy="145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572000" y="549360"/>
            <a:ext cx="2016000" cy="1323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340000" y="33336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84360" y="260280"/>
            <a:ext cx="1079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620640"/>
            <a:ext cx="8642160" cy="40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a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 was / I used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s to an action in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definite end- it could still be go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620640"/>
            <a:ext cx="864216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the infin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what are the 3 typ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what do they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think of what Buzz would s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remove the –ar / -er / 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d the appropriate e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167652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-ar verbs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(the Swedish end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aba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1" lang="en-GB" sz="4400" spc="-1" strike="noStrike" u="sng">
                <a:solidFill>
                  <a:srgbClr val="fc230c"/>
                </a:solidFill>
                <a:uFillTx/>
                <a:latin typeface="Comic Sans MS"/>
              </a:rPr>
              <a:t>á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b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abas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ab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aba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a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1676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-er and -i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s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1676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-er and -i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s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16002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era 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ér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eras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er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era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e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16002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iba 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b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ibas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ib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iba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i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16002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veía 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 veí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veía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 veí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veía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 veí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n do we use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alking about what we did or  used to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364500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66"/>
                </a:solidFill>
                <a:latin typeface="Comic Sans MS"/>
              </a:rPr>
              <a:t>Cuando era más joven, comía muchos caramelos y comida basu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1219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27360"/>
            <a:ext cx="58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Comic Sans MS"/>
              </a:rPr>
              <a:t>¿De dónde es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ShockwaveFlash1"/>
          <p:cNvGraphicFramePr/>
          <p:nvPr/>
        </p:nvGraphicFramePr>
        <p:xfrm>
          <a:off x="1835280" y="981000"/>
          <a:ext cx="633708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981000"/>
                    <a:ext cx="6337080" cy="5256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 talk about an action that was going on when something else happ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314172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66"/>
                </a:solidFill>
                <a:latin typeface="Comic Sans MS"/>
              </a:rPr>
              <a:t>Tomaba mi desayuno cuando mi hermana vomit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549360"/>
            <a:ext cx="8569080" cy="413244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yo era m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ás jove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 tenía siete años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comía mucho más comida y no solía comer muchas verduras porque pensaba que eran asquerosas. No obstante, jugaba al fútbol probablemente tres veces por semana, así no era muy gordo! Así, comía muchas hamburguesas, salchichas y bocadillos de jamón, aunque mi favorito era, como hoy en día el pollo asado con patatas asadas. En mi opinión no era una dieta muy s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0"/>
            <a:ext cx="8569080" cy="73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yo era 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ás joven, y tenía siete años, comía mucho más comida y no solía* comer muchas verduras porque pensaba que eran asquerosas. No obstante, jugaba al fútbol probablemente tres veces por semana, así no era muy gordo! Así*, comía muchas hamburguesas, salchichas y bocadillos de jamón, aunque mi favorito era, como hoy en día el pollo asado con patatas asadas. En mi opinión no era una dieta muy s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* solía = I usually used to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* así = So / as s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219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100440"/>
            <a:ext cx="566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Comic Sans MS"/>
              </a:rPr>
              <a:t>¿De dónde es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ShockwaveFlash1"/>
          <p:cNvGraphicFramePr/>
          <p:nvPr/>
        </p:nvGraphicFramePr>
        <p:xfrm>
          <a:off x="1042920" y="765000"/>
          <a:ext cx="63374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65000"/>
                    <a:ext cx="6337440" cy="532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1219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171720"/>
            <a:ext cx="54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Comic Sans MS"/>
              </a:rPr>
              <a:t>¿De dónde es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ShockwaveFlash1"/>
          <p:cNvGraphicFramePr/>
          <p:nvPr/>
        </p:nvGraphicFramePr>
        <p:xfrm>
          <a:off x="1692360" y="981000"/>
          <a:ext cx="611964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981000"/>
                    <a:ext cx="6119640" cy="446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55736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revise food voc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revise describing your eating ha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read a text to find out about the origins of the tapas cus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learn how to describe something that used to 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translate a text describing what a 7year old used to 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189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ich of these English word is likely to b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KEY / EASIEST word to find in Span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of paprika smoked saus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used to cover the small glasses of 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The goal of this custom was to wake up the appetite and th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tapa was born due to an illness of the Spanish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to avoid that people got too d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the majority of people didn’t have enough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it is more probable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 the need of farmers and workers to e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692280"/>
            <a:ext cx="78483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lonchas de choriz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on) que se tapaban los chatos de vi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inalidad de esta costumbre era despertar el apetito y la 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pa nació a causa de una enfermedad del Rey españ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evitar que se emborrachara demasi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ayoría de personas no tenían bastante dine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más probable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necesidad de agricultores y trabajadores de co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1989000"/>
            <a:ext cx="8569080" cy="3050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 colour, highlight verbs which end in –aba / -a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different colour, highlight verbs which end in 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a / - í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highlight the word “e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discuss in pairs what these words might mean- try to think back to the objec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80880" y="2590920"/>
            <a:ext cx="8543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alking abou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what you used to do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2:58:48Z</dcterms:created>
  <dc:creator>Owner1</dc:creator>
  <dc:description/>
  <dc:language>en-US</dc:language>
  <cp:lastModifiedBy>Owner1</cp:lastModifiedBy>
  <dcterms:modified xsi:type="dcterms:W3CDTF">2008-11-17T16:40:35Z</dcterms:modified>
  <cp:revision>3</cp:revision>
  <dc:subject/>
  <dc:title>Slide 1</dc:title>
</cp:coreProperties>
</file>